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12B1-8F10-4059-A683-772EEC8A38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A7C9-AD9C-4A05-88CE-D0CBF5B0BE45}" type="slidenum">
              <a:rPr b="0" lang="en-GB" sz="1200" spc="-1" strike="noStrike">
                <a:solidFill>
                  <a:srgbClr val="eaeaea"/>
                </a:solidFill>
                <a:latin typeface="Arial"/>
              </a:rPr>
              <a:t>&lt;number&gt;</a:t>
            </a:fld>
            <a:endParaRPr b="0" lang="en-US" sz="1200" spc="-1" strike="noStrike">
              <a:solidFill>
                <a:srgbClr val="eaeaea"/>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4E1F2-1251-4325-B0F0-536BA23F4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54E0F-1E2C-48CB-88D8-5FA808BDE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F4260-E8CB-45B7-8644-58A1F9D73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66BAE-56C4-4A31-9249-6F4D6599B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E9D3D-798F-4298-ABF2-1E2D130F8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9E5D0-FCB3-4749-BF1C-C033A8CE7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17ABD-FDA6-4581-8AE7-090113A50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55CD0-7B2C-4AE4-83DE-C899E702D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48968-168F-46A3-9381-FCEE227A5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C1150-CD47-4D14-8E38-0E5F01633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FFE5F-BDA4-44CD-BCB2-FA1187380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21905-1EDE-443B-9A1A-DF7E5B4DD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0B2C7-EDD7-4B92-9CB6-E63BBBCEE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53811-0105-4C7D-9B31-C475627C0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66628-87B9-423F-A6B6-A7D183BE8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F5C9F-0D3B-450B-8C05-EEEDB7F89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686D8B-48A4-4F6B-9A3C-7A812B45A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0579E-32D7-46A0-91D5-2C1ED379D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BE019-F84F-43B7-A9F6-CA1E6705A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76628-B89E-4107-A548-9507F6178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87E95-CCAE-4027-98F7-7B4FA5F4D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E0294-BDAF-4ED2-8847-E29BB287D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46522-CD29-4408-AA17-E4F76C057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17807-4CCD-4C06-B083-8D4227953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5"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6"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1"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2"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5"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6"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57"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313C-D372-401F-A0DA-6195E38D354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0"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1"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2"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3"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4"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6"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7"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4"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5"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6"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7"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8"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9"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6"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7"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8"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5"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6"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7"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0"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3"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4"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5"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8"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0"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F79E-51AC-4BB3-A9D1-FD39C5053BAF}" type="slidenum">
              <a:rPr b="0" lang="en-GB"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28400" y="3357360"/>
            <a:ext cx="8226360" cy="9493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ccecff"/>
                </a:solidFill>
                <a:latin typeface="Comic Sans MS"/>
              </a:rPr>
              <a:t>Mewn tair symudiad, rhaid troi’r holl gwpanau fel bod pob un ohonynt y ffordd gywir i fyny.</a:t>
            </a:r>
            <a:endParaRPr b="0" lang="en-US" sz="2800" spc="-1" strike="noStrike">
              <a:solidFill>
                <a:srgbClr val="ccecff"/>
              </a:solidFill>
              <a:latin typeface="Arial"/>
            </a:endParaRPr>
          </a:p>
        </p:txBody>
      </p:sp>
      <p:sp>
        <p:nvSpPr>
          <p:cNvPr id="220" name="Rectangle 4"/>
          <p:cNvSpPr/>
          <p:nvPr/>
        </p:nvSpPr>
        <p:spPr>
          <a:xfrm>
            <a:off x="3956040" y="230040"/>
            <a:ext cx="196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u="sng">
                <a:solidFill>
                  <a:srgbClr val="ccecff"/>
                </a:solidFill>
                <a:uFillTx/>
                <a:latin typeface="Comic Sans MS"/>
              </a:rPr>
              <a:t>Cwpanau</a:t>
            </a:r>
            <a:endParaRPr b="0" lang="en-US" sz="3200" spc="-1" strike="noStrike">
              <a:solidFill>
                <a:srgbClr val="eaeaea"/>
              </a:solidFill>
              <a:latin typeface="Arial"/>
            </a:endParaRPr>
          </a:p>
        </p:txBody>
      </p:sp>
      <p:grpSp>
        <p:nvGrpSpPr>
          <p:cNvPr id="221" name="Group 4"/>
          <p:cNvGrpSpPr/>
          <p:nvPr/>
        </p:nvGrpSpPr>
        <p:grpSpPr>
          <a:xfrm>
            <a:off x="2499840" y="1143000"/>
            <a:ext cx="1346760" cy="1801800"/>
            <a:chOff x="2499840" y="1143000"/>
            <a:chExt cx="1346760" cy="1801800"/>
          </a:xfrm>
        </p:grpSpPr>
        <p:grpSp>
          <p:nvGrpSpPr>
            <p:cNvPr id="222" name="Group 5"/>
            <p:cNvGrpSpPr/>
            <p:nvPr/>
          </p:nvGrpSpPr>
          <p:grpSpPr>
            <a:xfrm>
              <a:off x="2500200" y="1143000"/>
              <a:ext cx="1346400" cy="1801800"/>
              <a:chOff x="2500200" y="1143000"/>
              <a:chExt cx="1346400" cy="1801800"/>
            </a:xfrm>
          </p:grpSpPr>
          <p:sp>
            <p:nvSpPr>
              <p:cNvPr id="223" name="Oval 6"/>
              <p:cNvSpPr/>
              <p:nvPr/>
            </p:nvSpPr>
            <p:spPr>
              <a:xfrm>
                <a:off x="2500200" y="2541600"/>
                <a:ext cx="1346400" cy="403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4" name="AutoShape 7"/>
              <p:cNvSpPr/>
              <p:nvPr/>
            </p:nvSpPr>
            <p:spPr>
              <a:xfrm rot="10800000">
                <a:off x="2500200" y="1249920"/>
                <a:ext cx="1346400" cy="147096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5" name="Oval 8"/>
              <p:cNvSpPr/>
              <p:nvPr/>
            </p:nvSpPr>
            <p:spPr>
              <a:xfrm>
                <a:off x="2840400" y="1143000"/>
                <a:ext cx="651600" cy="268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cxnSp>
          <p:nvCxnSpPr>
            <p:cNvPr id="226" name="AutoShape 9"/>
            <p:cNvCxnSpPr/>
            <p:nvPr/>
          </p:nvCxnSpPr>
          <p:spPr>
            <a:xfrm flipH="1">
              <a:off x="2499840" y="2721240"/>
              <a:ext cx="1347120" cy="1440"/>
            </a:xfrm>
            <a:prstGeom prst="straightConnector1">
              <a:avLst/>
            </a:prstGeom>
            <a:ln w="38160">
              <a:solidFill>
                <a:srgbClr val="ffffff"/>
              </a:solidFill>
              <a:miter/>
            </a:ln>
          </p:spPr>
        </p:cxnSp>
      </p:grpSp>
      <p:grpSp>
        <p:nvGrpSpPr>
          <p:cNvPr id="227" name="Group 10"/>
          <p:cNvGrpSpPr/>
          <p:nvPr/>
        </p:nvGrpSpPr>
        <p:grpSpPr>
          <a:xfrm>
            <a:off x="5285520" y="1143000"/>
            <a:ext cx="1429560" cy="1801800"/>
            <a:chOff x="5285520" y="1143000"/>
            <a:chExt cx="1429560" cy="1801800"/>
          </a:xfrm>
        </p:grpSpPr>
        <p:grpSp>
          <p:nvGrpSpPr>
            <p:cNvPr id="228" name="Group 11"/>
            <p:cNvGrpSpPr/>
            <p:nvPr/>
          </p:nvGrpSpPr>
          <p:grpSpPr>
            <a:xfrm>
              <a:off x="5285880" y="1143000"/>
              <a:ext cx="1429200" cy="1801800"/>
              <a:chOff x="5285880" y="1143000"/>
              <a:chExt cx="1429200" cy="1801800"/>
            </a:xfrm>
          </p:grpSpPr>
          <p:sp>
            <p:nvSpPr>
              <p:cNvPr id="229" name="Oval 12"/>
              <p:cNvSpPr/>
              <p:nvPr/>
            </p:nvSpPr>
            <p:spPr>
              <a:xfrm>
                <a:off x="5286240" y="2541600"/>
                <a:ext cx="1428840" cy="403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0" name="AutoShape 13"/>
              <p:cNvSpPr/>
              <p:nvPr/>
            </p:nvSpPr>
            <p:spPr>
              <a:xfrm rot="10800000">
                <a:off x="5285880" y="1249920"/>
                <a:ext cx="1428840" cy="147096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1" name="Oval 14"/>
              <p:cNvSpPr/>
              <p:nvPr/>
            </p:nvSpPr>
            <p:spPr>
              <a:xfrm>
                <a:off x="5647320" y="1143000"/>
                <a:ext cx="691560" cy="268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cxnSp>
          <p:nvCxnSpPr>
            <p:cNvPr id="232" name="AutoShape 15"/>
            <p:cNvCxnSpPr/>
            <p:nvPr/>
          </p:nvCxnSpPr>
          <p:spPr>
            <a:xfrm flipH="1">
              <a:off x="5285520" y="2721240"/>
              <a:ext cx="1429560" cy="1440"/>
            </a:xfrm>
            <a:prstGeom prst="straightConnector1">
              <a:avLst/>
            </a:prstGeom>
            <a:ln w="38160">
              <a:solidFill>
                <a:srgbClr val="ffffff"/>
              </a:solidFill>
              <a:miter/>
            </a:ln>
          </p:spPr>
        </p:cxnSp>
      </p:grpSp>
      <p:grpSp>
        <p:nvGrpSpPr>
          <p:cNvPr id="233" name="Group 16"/>
          <p:cNvGrpSpPr/>
          <p:nvPr/>
        </p:nvGrpSpPr>
        <p:grpSpPr>
          <a:xfrm>
            <a:off x="3857760" y="1071360"/>
            <a:ext cx="1428120" cy="1791720"/>
            <a:chOff x="3857760" y="1071360"/>
            <a:chExt cx="1428120" cy="1791720"/>
          </a:xfrm>
        </p:grpSpPr>
        <p:sp>
          <p:nvSpPr>
            <p:cNvPr id="234" name="Oval 17"/>
            <p:cNvSpPr/>
            <p:nvPr/>
          </p:nvSpPr>
          <p:spPr>
            <a:xfrm rot="10800000">
              <a:off x="4214160" y="2594880"/>
              <a:ext cx="690840" cy="268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5" name="AutoShape 18"/>
            <p:cNvSpPr/>
            <p:nvPr/>
          </p:nvSpPr>
          <p:spPr>
            <a:xfrm>
              <a:off x="3858120" y="1276560"/>
              <a:ext cx="1427760" cy="14702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6" name="Oval 19"/>
            <p:cNvSpPr/>
            <p:nvPr/>
          </p:nvSpPr>
          <p:spPr>
            <a:xfrm rot="10800000">
              <a:off x="3857760" y="1071360"/>
              <a:ext cx="1427760" cy="402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cxnSp>
          <p:nvCxnSpPr>
            <p:cNvPr id="237" name="AutoShape 20"/>
            <p:cNvCxnSpPr/>
            <p:nvPr/>
          </p:nvCxnSpPr>
          <p:spPr>
            <a:xfrm>
              <a:off x="4255920" y="2746800"/>
              <a:ext cx="649800" cy="1080"/>
            </a:xfrm>
            <a:prstGeom prst="straightConnector1">
              <a:avLst/>
            </a:prstGeom>
            <a:ln w="9360">
              <a:solidFill>
                <a:srgbClr val="ffffff"/>
              </a:solidFill>
              <a:miter/>
            </a:ln>
          </p:spPr>
        </p:cxnSp>
      </p:grpSp>
      <p:sp>
        <p:nvSpPr>
          <p:cNvPr id="238" name="TextBox 23"/>
          <p:cNvSpPr/>
          <p:nvPr/>
        </p:nvSpPr>
        <p:spPr>
          <a:xfrm>
            <a:off x="706320" y="4429080"/>
            <a:ext cx="637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Comic Sans MS"/>
              </a:rPr>
              <a:t>Rhaid</a:t>
            </a:r>
            <a:r>
              <a:rPr b="0" lang="en-US" sz="1800" spc="-1" strike="noStrike">
                <a:solidFill>
                  <a:srgbClr val="eaeaea"/>
                </a:solidFill>
                <a:latin typeface="Comic Sans MS"/>
              </a:rPr>
              <a:t> </a:t>
            </a:r>
            <a:r>
              <a:rPr b="0" lang="en-US" sz="2800" spc="-1" strike="noStrike">
                <a:solidFill>
                  <a:srgbClr val="eaeaea"/>
                </a:solidFill>
                <a:latin typeface="Comic Sans MS"/>
              </a:rPr>
              <a:t>symud dwy gwpan ar yr un tro!</a:t>
            </a:r>
            <a:endParaRPr b="0" lang="en-US" sz="28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2T20:20:49Z</dcterms:created>
  <dc:creator>Carwyn</dc:creator>
  <dc:description/>
  <dc:language>en-US</dc:language>
  <cp:lastModifiedBy>Carwyn</cp:lastModifiedBy>
  <dcterms:modified xsi:type="dcterms:W3CDTF">2009-11-28T20:43:40Z</dcterms:modified>
  <cp:revision>4</cp:revision>
  <dc:subject/>
  <dc:title>Cwn  Mae ci o’r enw Buster yn pwyso mwy na’r ci o’r enw Eddie.  Mae Goldie yn pwyso mwy na Brandy ond yn pwyso llai na Lassie.  Mae Brandy yn pwyso mwy na Eddie.  Mae Lassie yn pwyso llai na Buster.  Rhestrwch y cwn mewn trefn, gan ddechrau gyda’r trymaf!</dc:title>
</cp:coreProperties>
</file>